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A94A6-3BCB-4E72-924E-1B133479EC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D6DB3-14AB-4919-9882-0C46819B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4817B-413B-4CBF-A922-AC0BC143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6AF02-4A17-4BF0-A434-A00ED9770F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C5831-149A-4B22-90FA-F8509C9E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CAE1C-70A1-4CC8-A8BA-6922BBB9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5DC46-00C6-44FA-8E71-595C7B24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DF2F0-AFD2-43EF-BA85-EE667AD8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53AA1-D748-4D99-B6A0-A3370AC2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6BCCF-C53E-4837-8E6B-E78E18DE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40EEF-E873-4969-9B4F-B24C7494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E117E-61B7-43FD-BEEE-A21442AD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9D2A-21CC-40C6-A5B0-F8EA7D4DC1E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黑体"/>
                <a:ea typeface="黑体"/>
              </a:rPr>
              <a:t>第二章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环境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640" y="1701720"/>
            <a:ext cx="79437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411640" y="4294440"/>
            <a:ext cx="5630760" cy="1799640"/>
            <a:chOff x="2411640" y="4294440"/>
            <a:chExt cx="5630760" cy="1799640"/>
          </a:xfrm>
        </p:grpSpPr>
        <p:sp>
          <p:nvSpPr>
            <p:cNvPr id="168" name=""/>
            <p:cNvSpPr/>
            <p:nvPr/>
          </p:nvSpPr>
          <p:spPr>
            <a:xfrm rot="10800000">
              <a:off x="2411640" y="4294440"/>
              <a:ext cx="5630760" cy="179964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99669b"/>
              </a:solidFill>
              <a:miter/>
            </a:ln>
            <a:effectLst>
              <a:outerShdw dist="63504" dir="3183908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2411640" y="4512240"/>
              <a:ext cx="542628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627280" y="4508640"/>
            <a:ext cx="50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现场的安全、引起的原因、受伤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身、患者及旁观者是否身处险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伤病员是否仍有生命危险存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病情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判断伤者多少、伤势轻重、救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轻、重、缓、急初步检查与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状况观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5292720" y="2924280"/>
            <a:ext cx="3456000" cy="33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383" y="3992"/>
                </a:moveTo>
                <a:lnTo>
                  <a:pt x="-476" y="729"/>
                </a:lnTo>
              </a:path>
              <a:path w="21600" h="21600">
                <a:moveTo>
                  <a:pt x="-476" y="0"/>
                </a:moveTo>
                <a:lnTo>
                  <a:pt x="-47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患者头颈部、躯干部及四肢活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检查有无外伤及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倾听患者或目击者的主诉及与发病或创伤有关的细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判断是否与患者主诉相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40040"/>
            <a:ext cx="723888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2494080"/>
            <a:ext cx="230328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技术力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5080" y="2354400"/>
            <a:ext cx="4176720" cy="5731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救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8720" y="3141720"/>
            <a:ext cx="2303280" cy="5540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急救物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998800"/>
            <a:ext cx="410364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8720" y="3789360"/>
            <a:ext cx="230328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区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646440"/>
            <a:ext cx="4103640" cy="5288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有效存活率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4438800"/>
            <a:ext cx="2303280" cy="4284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转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4292640"/>
            <a:ext cx="417672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就地就近的抢救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68360" y="1413000"/>
            <a:ext cx="4495680" cy="4514400"/>
            <a:chOff x="2268360" y="1413000"/>
            <a:chExt cx="4495680" cy="4514400"/>
          </a:xfrm>
        </p:grpSpPr>
        <p:sp>
          <p:nvSpPr>
            <p:cNvPr id="186" name="Puzzle3"/>
            <p:cNvSpPr/>
            <p:nvPr/>
          </p:nvSpPr>
          <p:spPr>
            <a:xfrm>
              <a:off x="4457520" y="1413000"/>
              <a:ext cx="1767240" cy="2399040"/>
            </a:xfrm>
            <a:prstGeom prst="pie">
              <a:avLst/>
            </a:prstGeom>
            <a:solidFill>
              <a:srgbClr val="fe230c"/>
            </a:soli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Puzzle2"/>
            <p:cNvSpPr/>
            <p:nvPr/>
          </p:nvSpPr>
          <p:spPr>
            <a:xfrm>
              <a:off x="3943800" y="3160800"/>
              <a:ext cx="2820240" cy="218520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e273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Puzzle4"/>
            <p:cNvSpPr/>
            <p:nvPr/>
          </p:nvSpPr>
          <p:spPr>
            <a:xfrm>
              <a:off x="2851920" y="313380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8bd49b"/>
                </a:gs>
                <a:gs pos="100000">
                  <a:srgbClr val="20ae3e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Puzzle1"/>
            <p:cNvSpPr/>
            <p:nvPr/>
          </p:nvSpPr>
          <p:spPr>
            <a:xfrm>
              <a:off x="2268360" y="2138760"/>
              <a:ext cx="2855520" cy="1665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5454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093080" y="1773360"/>
            <a:ext cx="1873080" cy="503280"/>
          </a:xfrm>
          <a:prstGeom prst="wedgeRectCallout">
            <a:avLst>
              <a:gd name="adj1" fmla="val -87773"/>
              <a:gd name="adj2" fmla="val 1060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危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4360" y="5661000"/>
            <a:ext cx="1873440" cy="504720"/>
          </a:xfrm>
          <a:prstGeom prst="wedgeRectCallout">
            <a:avLst>
              <a:gd name="adj1" fmla="val -87060"/>
              <a:gd name="adj2" fmla="val -15667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701720"/>
            <a:ext cx="1873440" cy="503280"/>
          </a:xfrm>
          <a:prstGeom prst="wedgeRectCallout">
            <a:avLst>
              <a:gd name="adj1" fmla="val 89231"/>
              <a:gd name="adj2" fmla="val 12745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致命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5877000"/>
            <a:ext cx="1873080" cy="504720"/>
          </a:xfrm>
          <a:prstGeom prst="wedgeRectCallout">
            <a:avLst>
              <a:gd name="adj1" fmla="val 80143"/>
              <a:gd name="adj2" fmla="val -23651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现场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1773360"/>
            <a:ext cx="6769080" cy="792000"/>
          </a:xfrm>
          <a:prstGeom prst="flowChartConnector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救、调度、急救是院前急救的出诊程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971640" y="155520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3640" y="2924280"/>
            <a:ext cx="6769080" cy="79200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患者舒适，减少再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971640" y="277884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4076640"/>
            <a:ext cx="6769080" cy="792360"/>
          </a:xfrm>
          <a:prstGeom prst="flowChartConnector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稳、准、轻、快、沉着冷静，安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5229360"/>
            <a:ext cx="6769080" cy="792000"/>
          </a:xfrm>
          <a:prstGeom prst="flowChartConnec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病情送往就近医院继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971640" y="3933000"/>
            <a:ext cx="792000" cy="107964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971640" y="5083920"/>
            <a:ext cx="7938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2206440"/>
            <a:ext cx="541944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搬运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把握转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联系送往地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患者生命体征的相对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交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445080" y="3213000"/>
            <a:ext cx="229248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777708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：转运患者最常用的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汽车：颠簸，晕车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列车：时间长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飞机：上升和下降时气压有变化，噪音，颠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7720"/>
            <a:ext cx="7632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运途中加强生命支持性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椎受伤者，保持脊柱轴线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运送，头部在后，下肢在前，注意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运中，注意保温和湿化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护车在上下坡、拐弯、停车调头时要防止颠簸，以免发生坠落，加重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记录有关医疗文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3C58-8FE1-406A-8D9E-10257108A2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 flipV="1">
            <a:off x="3492360" y="162828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3492360" y="2563920"/>
            <a:ext cx="83844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1260360" y="4076640"/>
            <a:ext cx="2286000" cy="1067040"/>
          </a:xfrm>
          <a:prstGeom prst="ellipse">
            <a:avLst/>
          </a:prstGeom>
          <a:solidFill>
            <a:srgbClr val="ddddd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按原因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1187280" y="17017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 flipV="1">
            <a:off x="3708360" y="4149360"/>
            <a:ext cx="838080" cy="304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645080" y="3787920"/>
            <a:ext cx="2622600" cy="6476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然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3780000" y="4797360"/>
            <a:ext cx="83808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4645080" y="4797360"/>
            <a:ext cx="2663640" cy="663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为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4572000" y="1339920"/>
            <a:ext cx="2664000" cy="577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天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572000" y="278136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4572000" y="213372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地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 flipV="1">
            <a:off x="3564000" y="2276640"/>
            <a:ext cx="792000" cy="187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49228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1f1f1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12720" y="2205000"/>
            <a:ext cx="1584360" cy="3309840"/>
            <a:chOff x="612720" y="2205000"/>
            <a:chExt cx="1584360" cy="3309840"/>
          </a:xfrm>
        </p:grpSpPr>
        <p:sp>
          <p:nvSpPr>
            <p:cNvPr id="227" name=""/>
            <p:cNvSpPr/>
            <p:nvPr/>
          </p:nvSpPr>
          <p:spPr>
            <a:xfrm>
              <a:off x="612720" y="220500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240" y="224316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突发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629080" y="2276640"/>
            <a:ext cx="1511280" cy="3310920"/>
            <a:chOff x="2629080" y="2276640"/>
            <a:chExt cx="1511280" cy="3310920"/>
          </a:xfrm>
        </p:grpSpPr>
        <p:sp>
          <p:nvSpPr>
            <p:cNvPr id="230" name=""/>
            <p:cNvSpPr/>
            <p:nvPr/>
          </p:nvSpPr>
          <p:spPr>
            <a:xfrm>
              <a:off x="2629080" y="2276640"/>
              <a:ext cx="1511280" cy="331092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10920"/>
                <a:gd name="textAreaBottom" fmla="*/ 3237480 h 3310920"/>
              </a:gdLst>
              <a:ahLst/>
              <a:rect l="textAreaLeft" t="textAreaTop" r="textAreaRight" b="textAreaBottom"/>
              <a:pathLst>
                <a:path w="21600" h="47315">
                  <a:moveTo>
                    <a:pt x="3600" y="0"/>
                  </a:moveTo>
                  <a:arcTo wR="3600" hR="3600" stAng="16200000" swAng="-5400000"/>
                  <a:lnTo>
                    <a:pt x="0" y="43715"/>
                  </a:lnTo>
                  <a:arcTo wR="3600" hR="3600" stAng="10800000" swAng="-5400000"/>
                  <a:lnTo>
                    <a:pt x="18000" y="473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88840" y="231480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任务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73440" y="2278080"/>
            <a:ext cx="1511280" cy="3309840"/>
            <a:chOff x="4573440" y="2278080"/>
            <a:chExt cx="1511280" cy="3309840"/>
          </a:xfrm>
        </p:grpSpPr>
        <p:sp>
          <p:nvSpPr>
            <p:cNvPr id="233" name=""/>
            <p:cNvSpPr/>
            <p:nvPr/>
          </p:nvSpPr>
          <p:spPr>
            <a:xfrm>
              <a:off x="4573440" y="2278080"/>
              <a:ext cx="1511280" cy="330984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09840"/>
                <a:gd name="textAreaBottom" fmla="*/ 3236400 h 3309840"/>
              </a:gdLst>
              <a:ahLst/>
              <a:rect l="textAreaLeft" t="textAreaTop" r="textAreaRight" b="textAreaBottom"/>
              <a:pathLst>
                <a:path w="21600" h="47300">
                  <a:moveTo>
                    <a:pt x="3600" y="0"/>
                  </a:moveTo>
                  <a:arcTo wR="3600" hR="3600" stAng="16200000" swAng="-5400000"/>
                  <a:lnTo>
                    <a:pt x="0" y="43700"/>
                  </a:lnTo>
                  <a:arcTo wR="3600" hR="3600" stAng="10800000" swAng="-5400000"/>
                  <a:lnTo>
                    <a:pt x="18000" y="473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d9269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3200" y="231624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条件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516720" y="2279520"/>
            <a:ext cx="1584360" cy="3309840"/>
            <a:chOff x="6516720" y="2279520"/>
            <a:chExt cx="1584360" cy="3309840"/>
          </a:xfrm>
        </p:grpSpPr>
        <p:sp>
          <p:nvSpPr>
            <p:cNvPr id="236" name=""/>
            <p:cNvSpPr/>
            <p:nvPr/>
          </p:nvSpPr>
          <p:spPr>
            <a:xfrm>
              <a:off x="6516720" y="227952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79360" y="231768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涉及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12720" y="3932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预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集体群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事发现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系统工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目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4720" y="1701720"/>
            <a:ext cx="3959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院前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灾害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267000" y="1459080"/>
            <a:ext cx="2641680" cy="2644560"/>
          </a:xfrm>
          <a:prstGeom prst="ellipse">
            <a:avLst/>
          </a:prstGeom>
          <a:solidFill>
            <a:srgbClr val="99669b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2781360"/>
            <a:ext cx="2644560" cy="2643120"/>
          </a:xfrm>
          <a:prstGeom prst="ellipse">
            <a:avLst/>
          </a:prstGeom>
          <a:solidFill>
            <a:srgbClr val="8ac8de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火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06960" y="2851200"/>
            <a:ext cx="2643120" cy="2643120"/>
          </a:xfrm>
          <a:prstGeom prst="ellipse">
            <a:avLst/>
          </a:prstGeom>
          <a:solidFill>
            <a:srgbClr val="969696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9640" y="1773360"/>
          <a:ext cx="8177040" cy="4055760"/>
        </p:xfrm>
        <a:graphic>
          <a:graphicData uri="http://schemas.openxmlformats.org/drawingml/2006/table">
            <a:tbl>
              <a:tblPr/>
              <a:tblGrid>
                <a:gridCol w="1666800"/>
                <a:gridCol w="2149560"/>
                <a:gridCol w="2224080"/>
                <a:gridCol w="2136600"/>
              </a:tblGrid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地震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火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水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0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伤情特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复合伤、挤压伤，合并休克或心肺功能衰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单纯烧伤和复合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外伤、骨折、挤压伤、掩埋、窒息、死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急救要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保存生命，预防再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安全脱离现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防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吸入性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脱离危险区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，溺水、掩埋、外伤者救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70136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ublic emergency health event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突然发生，造成或者可能造成社会公众健康严重损害的重大传染疫情、群体性不明原因疾病、重大食物和食品安全危害等严重影响公众健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835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因的多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布的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播的广泛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危害的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理的综合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360540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30434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表现形式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成因和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2276640"/>
            <a:ext cx="3816360" cy="82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环境危害因素达到规定预警值时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1268280"/>
            <a:ext cx="381636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病例数累计达到规定预警值时所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 flipV="1">
            <a:off x="2987640" y="1557000"/>
            <a:ext cx="936720" cy="30780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3060720" y="2205000"/>
            <a:ext cx="1006560" cy="50328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4429080" y="3502080"/>
            <a:ext cx="4248360" cy="259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44" y="5969"/>
                </a:moveTo>
                <a:lnTo>
                  <a:pt x="-387" y="952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重大传染病疫情，群体性不明原因的疾病，食品安全和职业危害，新发传染性疾病，群体性预防接种反应和群体性药物反应，重大环境污染事故，核事故和放射事故，自然灾害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2987640" y="1773360"/>
            <a:ext cx="720720" cy="3671640"/>
          </a:xfrm>
          <a:custGeom>
            <a:avLst/>
            <a:gdLst>
              <a:gd name="textAreaLeft" fmla="*/ 460440 w 720720"/>
              <a:gd name="textAreaRight" fmla="*/ 721080 w 720720"/>
              <a:gd name="textAreaTop" fmla="*/ 95760 h 3671640"/>
              <a:gd name="textAreaBottom" fmla="*/ 3575880 h 36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16360" y="155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16360" y="2637000"/>
            <a:ext cx="3240360" cy="8650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大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3718080"/>
            <a:ext cx="3240360" cy="8632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16360" y="479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2781360"/>
            <a:ext cx="2160360" cy="1728720"/>
          </a:xfrm>
          <a:prstGeom prst="flowChartProcess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医疗卫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救援分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救护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1280" y="1701720"/>
            <a:ext cx="792144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一指挥，共同协调是其关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检伤分类原则是将有限的急救服务优先给予急需救护的人，达到群体急救的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就地抢救原则是指在灾难发生地组织抢救、不等不靠、不盲目转院，经初步处理待病情稳定后再有计划、有目的疏散及转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实行谁救治谁负责的原则，减少因相互推诿影响急救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2800" spc="-1" strike="noStrike">
                <a:solidFill>
                  <a:srgbClr val="009900"/>
                </a:solidFill>
                <a:latin typeface="Verdana"/>
                <a:ea typeface="黑体"/>
              </a:rPr>
              <a:t>救护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 flipV="1" rot="10800000">
            <a:off x="1114560" y="1555920"/>
            <a:ext cx="6410160" cy="576000"/>
          </a:xfrm>
          <a:prstGeom prst="flowChartAlternateProcess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计划、有步骤地抢救受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 rot="10800000">
            <a:off x="1114560" y="2348280"/>
            <a:ext cx="6410160" cy="1079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因事、因人、因病情而异，采取不同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救护措施，确保现场救护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 rot="10800000">
            <a:off x="1116000" y="3645000"/>
            <a:ext cx="6408720" cy="574560"/>
          </a:xfrm>
          <a:prstGeom prst="flowChartAlternateProcess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救护过程中防止再损伤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 rot="10800000">
            <a:off x="1116000" y="4435920"/>
            <a:ext cx="6408720" cy="5763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挥团队力量实施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 rot="10800000">
            <a:off x="1116000" y="5229360"/>
            <a:ext cx="6408720" cy="576000"/>
          </a:xfrm>
          <a:prstGeom prst="flowChartAlternateProcess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灾后引起的心理问题不容忽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0000" y="2133720"/>
            <a:ext cx="72010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院前急救为什么强调全民参与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现场急救护士最主要的工作职责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你如何理解灾后心理重建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908000" y="2349360"/>
            <a:ext cx="51660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谢谢聆听！</a:t>
            </a:r>
            <a:endParaRPr b="1" lang="en-US" sz="80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院前急救的概念、原则及救护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院前急救原则实施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6B50-03AD-4416-B2EE-5E850A0990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2306880" cy="1878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80000" y="3284640"/>
            <a:ext cx="30495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1451-CAEE-4D87-941C-57E0BA9029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774800"/>
            <a:ext cx="7993080" cy="16542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清晨，广场中有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男性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岁，突感心前区憋闷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有严重的窒息感，伴恶心、呕吐及出冷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.....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789360"/>
            <a:ext cx="6481800" cy="165564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最可能的医疗诊断是什么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你在现场当如何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F83F-2A84-46E4-B1C3-86D40E9FAD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rehospital emergency car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医院之外的环境中对各种危及生命的急症、创伤、中毒、灾难事故等患者在到达医院之前进行的紧急医疗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自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年代后期发展较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化、专业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一体化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C2EF-6615-48B6-8D3B-C8438AFD53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84720" y="3141720"/>
            <a:ext cx="4649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现场救治条件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06AE-DF52-44BC-996C-B78013873F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6227640" y="2060640"/>
            <a:ext cx="2305080" cy="35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581" y="2890"/>
                </a:moveTo>
                <a:lnTo>
                  <a:pt x="-714" y="700"/>
                </a:lnTo>
              </a:path>
              <a:path w="21600" h="21600">
                <a:moveTo>
                  <a:pt x="-714" y="0"/>
                </a:moveTo>
                <a:lnTo>
                  <a:pt x="-714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史不详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急救人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设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现场环境恶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构职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1187280" y="458136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人职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8ac8de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172200" y="2209680"/>
            <a:ext cx="2285640" cy="3309840"/>
            <a:chOff x="6172200" y="2209680"/>
            <a:chExt cx="2285640" cy="3309840"/>
          </a:xfrm>
        </p:grpSpPr>
        <p:sp>
          <p:nvSpPr>
            <p:cNvPr id="149" name=""/>
            <p:cNvSpPr/>
            <p:nvPr/>
          </p:nvSpPr>
          <p:spPr>
            <a:xfrm>
              <a:off x="6172200" y="220968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66880" y="224784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669b"/>
              </a:gs>
              <a:gs pos="100000">
                <a:srgbClr val="b793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专业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69696"/>
              </a:gs>
              <a:gs pos="100000">
                <a:srgbClr val="b4b4b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db523"/>
              </a:gs>
              <a:gs pos="100000">
                <a:srgbClr val="e6ca6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45080" y="3573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救护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003320" y="1749600"/>
            <a:ext cx="678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院前急救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29242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9b"/>
          </a:soli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51240" y="29224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2925720"/>
            <a:ext cx="2376720" cy="211140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8ac8de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2924280"/>
            <a:ext cx="2081160" cy="2133360"/>
          </a:xfrm>
          <a:custGeom>
            <a:avLst/>
            <a:gdLst>
              <a:gd name="textAreaLeft" fmla="*/ 0 w 2081160"/>
              <a:gd name="textAreaRight" fmla="*/ 2081520 w 20811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466a"/>
              </a:gs>
              <a:gs pos="100000">
                <a:srgbClr val="666699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357336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先排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后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61080" y="3502080"/>
            <a:ext cx="160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先救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后运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5080" y="3500280"/>
            <a:ext cx="17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救并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3502080"/>
            <a:ext cx="160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先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微软用户</cp:lastModifiedBy>
  <dcterms:modified xsi:type="dcterms:W3CDTF">2015-08-30T18:28:58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